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44FAD-A805-4253-8A23-353327EDF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0216-43B9-4434-A640-CAFEC88D3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FD0D9-2BC3-4F2F-BFBC-6FCEE0E6A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7A910-AA9D-407B-9FF5-E688B51DF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91836-C6CB-48EC-9A07-A6149A6F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E654D-F7C7-454B-9341-BA8CD355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9AB9-F464-451F-A792-30AEBF9B8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59B3E-5082-424A-B34F-F1DC1AE2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9C2F3-2AC1-431B-B5CA-7F62B43FF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6191-7BF3-4F2C-B516-0894983A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B3F43-5C3B-4ED6-A11E-35AD73C14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D3A4-2021-47EE-AA76-439943436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2C8F-3CC5-4C90-8F30-0186B4563F05}"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3</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Блокатори канала за калцијум – механизам дејства</a:t>
            </a:r>
            <a:endParaRPr b="0" lang="en-US" sz="32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лцијум је неопходан за контракцију глатких мишићних ћелија и ћелија миокарда. У ове ћелије Са++ улази кроз протеинске структуре у мембрани које називамо каналима за калцијум. Највећи број канала за калцијум се активира (отвара) онда када се мембрана ћелије деполарише. Зато за њих кажемо да су волтажно-зависни канали. </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Блокатори калцијумских канала прво пролазе кроз мембрану ћелије а затим се везују са цитоплазматске стране канала и блокирају их. Постоје три места за везивање блокатора, која се означавају римским бројевима: I место, где се везују 1,4-дихидропиридини, II место, где се везују верапамил и њему слични лекови, и III место, где се везује дилтиазем. Због различитих места везивања, поједини блокатори калцијумских канала се међусобно разликују по механизму деловања и крајњим дејствима у организму.</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ејство блокатора канала за калцијум се појачава ако се мишићне ћелије чешће стимулишу, па се такав вид блокаде назива "блокада зависна од употребе". Разлог за такву појаву лежи у лакшем везивању ових лекова за калцијумске канале који су или отворени, или инактивирани (стање које непосредно претходи затварању канала).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3" name="Rectangle 2"/>
          <p:cNvSpPr/>
          <p:nvPr/>
        </p:nvSpPr>
        <p:spPr>
          <a:xfrm>
            <a:off x="1357200" y="2428920"/>
            <a:ext cx="6429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Мада се у литератури може наћи велики број описаних интеракција антиагрегационих лекова са другим лековима, само мали број интеракција има клинички значај, тј. утиче на даље лечење пацијента или погоршава његово здравствено стањ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Аспирин </a:t>
            </a:r>
            <a:r>
              <a:rPr b="0" lang="sr-CS" sz="1800" spc="-1" strike="noStrike">
                <a:solidFill>
                  <a:srgbClr val="000000"/>
                </a:solidFill>
                <a:latin typeface="Arial"/>
              </a:rPr>
              <a:t>интерагује са оралним антикоагулантним лековима или хепарином, доводећи до даљег слабљења згрушавања крви, тако да пацијенти могу доживети озбиљно крварење из усне дупље, често после неке интервенције. Да се то не би десило, треба избегавати истовремену примену аспирина са оралним коагулансима или хепарин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5" name="Rectangle 2"/>
          <p:cNvSpPr/>
          <p:nvPr/>
        </p:nvSpPr>
        <p:spPr>
          <a:xfrm>
            <a:off x="428760" y="1720800"/>
            <a:ext cx="7715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Ако се аспирин примени заједно са антидепресивима блокаторима преузимања серотонина, долази до појачања његовог антиагрегационог дејства и крварењ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Примену аспирина такође треба избегавати код пацијената који већ користе </a:t>
            </a:r>
            <a:r>
              <a:rPr b="0" i="1" lang="sr-CS" sz="2000" spc="-1" strike="noStrike">
                <a:solidFill>
                  <a:srgbClr val="000000"/>
                </a:solidFill>
                <a:latin typeface="Arial"/>
              </a:rPr>
              <a:t>нестероидне антиинфламаторне лекове (углавном ради њиховог аналгетског ефекта)</a:t>
            </a:r>
            <a:r>
              <a:rPr b="0" lang="sr-CS" sz="2000" spc="-1" strike="noStrike">
                <a:solidFill>
                  <a:srgbClr val="000000"/>
                </a:solidFill>
                <a:latin typeface="Arial"/>
              </a:rPr>
              <a:t>, јер се тада нежељена дејства аспирина појачавају, посебно на гастроинтестиналном тра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7" name="Rectangle 3"/>
          <p:cNvSpPr/>
          <p:nvPr/>
        </p:nvSpPr>
        <p:spPr>
          <a:xfrm>
            <a:off x="1571760" y="2274840"/>
            <a:ext cx="5286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ично аспирину, </a:t>
            </a:r>
            <a:r>
              <a:rPr b="1" lang="sr-CS" sz="1800" spc="-1" strike="noStrike">
                <a:solidFill>
                  <a:srgbClr val="000000"/>
                </a:solidFill>
                <a:latin typeface="Arial"/>
              </a:rPr>
              <a:t>клопидогрел </a:t>
            </a:r>
            <a:r>
              <a:rPr b="0" lang="sr-CS" sz="1800" spc="-1" strike="noStrike">
                <a:solidFill>
                  <a:srgbClr val="000000"/>
                </a:solidFill>
                <a:latin typeface="Arial"/>
              </a:rPr>
              <a:t>због свог антиагрегационог ефекта интерагује са оралним антикоагулантним лековима или хепарином, доводећи до даљег слабљења згрушавања крви, тако да се после неке интервенције у усној дупљи може јавити крварењ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9" name="Rectangle 3"/>
          <p:cNvSpPr/>
          <p:nvPr/>
        </p:nvSpPr>
        <p:spPr>
          <a:xfrm>
            <a:off x="1571760" y="2214720"/>
            <a:ext cx="600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Читав низ лекова слаби антиагрегациони ефекат клопидогрела, углавном због уплитања у његов метаболизам: карбамазепин, ципрофлоксацин, еритромицин, есомепразол и омепразол, флуконазол, флуоксетин и флувоксам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Осим карбамазепина, који ефекат клопидогрела смањује због убрзаног метаболизма и отклањања лека из организма, остали лекови инхибирају ензиме који врше метаболизам клопидогрела и теме ометају стварање </a:t>
            </a:r>
            <a:r>
              <a:rPr b="1" i="1" lang="sr-CS" sz="1800" spc="-1" strike="noStrike">
                <a:solidFill>
                  <a:srgbClr val="000000"/>
                </a:solidFill>
                <a:latin typeface="Arial"/>
              </a:rPr>
              <a:t>активног метаболита</a:t>
            </a:r>
            <a:r>
              <a:rPr b="0" lang="sr-CS" sz="1800" spc="-1" strike="noStrike">
                <a:solidFill>
                  <a:srgbClr val="000000"/>
                </a:solidFill>
                <a:latin typeface="Arial"/>
              </a:rPr>
              <a:t>, који заправо има антиагрегациони ефек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НЕЖЕЉЕНА ДЕЈСТВА АНТИАГРЕГАЦИОНИХ ЛЕКОВА</a:t>
            </a:r>
            <a:endParaRPr b="0" lang="en-US" sz="2000" spc="-1" strike="noStrike">
              <a:solidFill>
                <a:srgbClr val="000000"/>
              </a:solidFill>
              <a:latin typeface="Comic Sans MS"/>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ОЈАВА АКУТНИХ УЛЦЕРАЦИЈА СЛУЗОКОЖ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РВАРЕЊЕ ПОСЛЕ ИНТЕРВ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БУЛОЗНЕ МАНИФЕСТАЦИЈЕ СТИВЕН-ЏОНСОНОВОГ СИНДРО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ета-блокатори - индикације</a:t>
            </a:r>
            <a:endParaRPr b="0" lang="en-US" sz="4400" spc="-1" strike="noStrike">
              <a:solidFill>
                <a:srgbClr val="000000"/>
              </a:solidFill>
              <a:latin typeface="Comic Sans MS"/>
            </a:endParaRPr>
          </a:p>
        </p:txBody>
      </p:sp>
      <p:sp>
        <p:nvSpPr>
          <p:cNvPr id="73" name=""/>
          <p:cNvSpPr txBox="1"/>
          <p:nvPr/>
        </p:nvSpPr>
        <p:spPr>
          <a:xfrm>
            <a:off x="457200" y="1600200"/>
            <a:ext cx="8229600" cy="4997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 блокатори се користе за лечење хипертензије код млађих особа са здравим миокардом, за лечење ангине пекторис (јер смањују потрошњу кисеоника), за сузбијање екстрасистола или пароксизмалних тахикардија и за превенцију исхемије код болесника који су претрпели инфаркт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пранолол добро продире у ЦНС и тамо стабилизује мембрански потенцијал неурона, што се у пракси показало врло корисним у лечењу есенцијалног тремора. У принципу их не треба давати заједно са блокаторима калцијумских канала јер могу довести до блока спровођења у срцу (А-В блок), посебно ако се нпр. верапамил примењује интравенски.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ебно место бета-блокатори имају у превенцији поновне појаве инфаркта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блокатори се користе и за лечење срчане инсуфицијенције, јер смањују хиперактивност симпатичког нервног система. За ту индикацију се до сада највише користе метопролол, бисопролол и карведилол.</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грегација тромбоцита</a:t>
            </a:r>
            <a:endParaRPr b="0" lang="en-US" sz="4400" spc="-1" strike="noStrike">
              <a:solidFill>
                <a:srgbClr val="000000"/>
              </a:solidFill>
              <a:latin typeface="Comic Sans MS"/>
            </a:endParaRPr>
          </a:p>
        </p:txBody>
      </p:sp>
      <p:sp>
        <p:nvSpPr>
          <p:cNvPr id="45" name="Rectangle 2"/>
          <p:cNvSpPr/>
          <p:nvPr/>
        </p:nvSpPr>
        <p:spPr>
          <a:xfrm>
            <a:off x="642960" y="2286000"/>
            <a:ext cx="7786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У артеријама, где је струја крви веома брза, настају бели тромби сачињени само од агрегованих тромбоцита. Тромби обично настају на местима где дође до руптуре атероматозног плака, тј. где прсне ендотел и оголи се интима. Агрегацију тромбоцита помажу и убрзавају тромбоксан А</a:t>
            </a:r>
            <a:r>
              <a:rPr b="0" lang="en-US" sz="1800" spc="-1" strike="noStrike" baseline="-25000">
                <a:solidFill>
                  <a:srgbClr val="000000"/>
                </a:solidFill>
                <a:latin typeface="Arial"/>
              </a:rPr>
              <a:t>2</a:t>
            </a:r>
            <a:r>
              <a:rPr b="0" lang="en-US" sz="1800" spc="-1" strike="noStrike">
                <a:solidFill>
                  <a:srgbClr val="000000"/>
                </a:solidFill>
                <a:latin typeface="Arial"/>
              </a:rPr>
              <a:t> и аденозин дифосфат (АДП), а успорава је циклични аденозин монофосфат (цАМП). Све ове супстанце су продукти самих тромбоцита. Сам чин агрегације се одвија везивањем фибриногена једним крајем за гликопротеинске IIb/IIIa рецепторе на тромбоцитима, а другим крајем за Фон Вилебрандов фактор у огољеној интими крвног су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7" name="Rectangle 2"/>
          <p:cNvSpPr/>
          <p:nvPr/>
        </p:nvSpPr>
        <p:spPr>
          <a:xfrm>
            <a:off x="214200" y="2857680"/>
            <a:ext cx="8501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грегација тромбоцита се може смањити леком који инхибира синтезу простагландина у тромбоцитима (ацетилсалицилна киселина), леком који повећава концентрацију цАМП-а у тромбоцитима (дипиридамол), леком који блокира рецепторе за АДП-а (тиклопидин и клопидогрел) или лековима који се везују за </a:t>
            </a:r>
            <a:r>
              <a:rPr b="0" lang="en-US" sz="1800" spc="-1" strike="noStrike">
                <a:solidFill>
                  <a:srgbClr val="000000"/>
                </a:solidFill>
                <a:latin typeface="Arial"/>
              </a:rPr>
              <a:t>IIb</a:t>
            </a:r>
            <a:r>
              <a:rPr b="0" lang="sr-CS" sz="1800" spc="-1" strike="noStrike">
                <a:solidFill>
                  <a:srgbClr val="000000"/>
                </a:solidFill>
                <a:latin typeface="Arial"/>
              </a:rPr>
              <a:t>/</a:t>
            </a:r>
            <a:r>
              <a:rPr b="0" lang="en-US" sz="1800" spc="-1" strike="noStrike">
                <a:solidFill>
                  <a:srgbClr val="000000"/>
                </a:solidFill>
                <a:latin typeface="Arial"/>
              </a:rPr>
              <a:t>IIIa</a:t>
            </a:r>
            <a:r>
              <a:rPr b="0" lang="sr-CS" sz="1800" spc="-1" strike="noStrike">
                <a:solidFill>
                  <a:srgbClr val="000000"/>
                </a:solidFill>
                <a:latin typeface="Arial"/>
              </a:rPr>
              <a:t> рецепторе на тромбоцитима и инактивирају их (абциксимаб, ептифибатид и тирофиба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ви лекови се користе пре свега профилактички, за спречавање настанка тромбозе коронарних артерија (превенција инфаркта миокарда) и церебралних артерија (превенција инфаркта мозга). Такође спречавају тромбозу после перкутаних интервенција на коронарним артерија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9" name="Rectangle 2"/>
          <p:cNvSpPr/>
          <p:nvPr/>
        </p:nvSpPr>
        <p:spPr>
          <a:xfrm>
            <a:off x="500040" y="2357280"/>
            <a:ext cx="8286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Ацетилсалицилна киселина</a:t>
            </a:r>
            <a:r>
              <a:rPr b="0" lang="sr-CS" sz="1800" spc="-1" strike="noStrike">
                <a:solidFill>
                  <a:srgbClr val="000000"/>
                </a:solidFill>
                <a:latin typeface="Arial"/>
              </a:rPr>
              <a:t> антиагрегационо дејство испољава само у малим дозама (100 мг/дан или 300 мг сваки трећи дан) јер веће дозе инхибирају и стварање простагландина ендотела, простациклина, (</a:t>
            </a:r>
            <a:r>
              <a:rPr b="0" lang="en-US" sz="1800" spc="-1" strike="noStrike">
                <a:solidFill>
                  <a:srgbClr val="000000"/>
                </a:solidFill>
                <a:latin typeface="Arial"/>
              </a:rPr>
              <a:t>PG I</a:t>
            </a:r>
            <a:r>
              <a:rPr b="0" lang="sr-CS" sz="1800" spc="-1" strike="noStrike">
                <a:solidFill>
                  <a:srgbClr val="000000"/>
                </a:solidFill>
                <a:latin typeface="Arial"/>
              </a:rPr>
              <a:t>) који иначе има антиагрегационо и вазодилататорно деловањ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фикасност аспирина, дипиридамола, клопидогрела и тиклопидина је слична, али тиклопидин има најозбиљнија нежељена дејства: мучнина и дијареја код 20% болесника, хеморагија код 5% и неутропенија код 1% болесника. Зато се </a:t>
            </a:r>
            <a:r>
              <a:rPr b="1" i="1" lang="en-US" sz="1800" spc="-1" strike="noStrike">
                <a:solidFill>
                  <a:srgbClr val="000000"/>
                </a:solidFill>
                <a:latin typeface="Arial"/>
              </a:rPr>
              <a:t>тиклопидин</a:t>
            </a:r>
            <a:r>
              <a:rPr b="0" lang="en-US" sz="1800" spc="-1" strike="noStrike">
                <a:solidFill>
                  <a:srgbClr val="000000"/>
                </a:solidFill>
                <a:latin typeface="Arial"/>
              </a:rPr>
              <a:t> користи обично код болесника који не могу да толеришу аспирин (преосетљивост, бронхијална астма и др), у дози од 250 мг/12 часова, орално. Тиклопидин се данас користи веома често за превенцију тромбозе код пацијената код којих је уграђен коронарни стент. Однедавно постоји и алтернатива за тиклопидин, која има мање нежељених ефеката а једноставније се дозира. То је лек </a:t>
            </a:r>
            <a:r>
              <a:rPr b="1" i="1" lang="en-US" sz="1800" spc="-1" strike="noStrike">
                <a:solidFill>
                  <a:srgbClr val="000000"/>
                </a:solidFill>
                <a:latin typeface="Arial"/>
              </a:rPr>
              <a:t>клопидогрел</a:t>
            </a:r>
            <a:r>
              <a:rPr b="0" lang="en-US" sz="1800" spc="-1" strike="noStrike">
                <a:solidFill>
                  <a:srgbClr val="000000"/>
                </a:solidFill>
                <a:latin typeface="Arial"/>
              </a:rPr>
              <a:t>, који такође инхибира везивање АДП-а за рецепторе на тромбоцитима. Примењује се само једном дневно, у оралној дози од 75 м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Дипиридамол</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1" name="Rectangle 2"/>
          <p:cNvSpPr/>
          <p:nvPr/>
        </p:nvSpPr>
        <p:spPr>
          <a:xfrm>
            <a:off x="571680" y="1720800"/>
            <a:ext cx="7929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К</a:t>
            </a:r>
            <a:r>
              <a:rPr b="0" lang="en-US" sz="2000" spc="-1" strike="noStrike">
                <a:solidFill>
                  <a:srgbClr val="000000"/>
                </a:solidFill>
                <a:latin typeface="Arial"/>
              </a:rPr>
              <a:t>ористи</a:t>
            </a:r>
            <a:r>
              <a:rPr b="0" lang="sr-CS" sz="2000" spc="-1" strike="noStrike">
                <a:solidFill>
                  <a:srgbClr val="000000"/>
                </a:solidFill>
                <a:latin typeface="Arial"/>
              </a:rPr>
              <a:t> се</a:t>
            </a:r>
            <a:r>
              <a:rPr b="0" lang="en-US" sz="2000" spc="-1" strike="noStrike">
                <a:solidFill>
                  <a:srgbClr val="000000"/>
                </a:solidFill>
                <a:latin typeface="Arial"/>
              </a:rPr>
              <a:t> као додатак оралним антикоагулантним лековима, када они не могу сами да контролишу тромботичке процесе у организму (нпр. код пацијената са вештачким валвулама, у дози од 75 мг/8 часова, орално). Такође се користи у комбинацији са ацетилсалицилном киселином у секундарној превенцији тромбозе мозга (шлога). Нежељена дејства дипиридамола су: конфузија, болови у трбуху и главобољ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бциксимаб</a:t>
            </a:r>
            <a:endParaRPr b="0" lang="en-US" sz="4400" spc="-1" strike="noStrike">
              <a:solidFill>
                <a:srgbClr val="000000"/>
              </a:solidFill>
              <a:latin typeface="Comic Sans MS"/>
            </a:endParaRPr>
          </a:p>
        </p:txBody>
      </p:sp>
      <p:sp>
        <p:nvSpPr>
          <p:cNvPr id="53" name="Rectangle 2"/>
          <p:cNvSpPr/>
          <p:nvPr/>
        </p:nvSpPr>
        <p:spPr>
          <a:xfrm>
            <a:off x="571680" y="22860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Моноклонско антитело </a:t>
            </a:r>
            <a:r>
              <a:rPr b="1" i="1" lang="en-US" sz="2000" spc="-1" strike="noStrike">
                <a:solidFill>
                  <a:srgbClr val="000000"/>
                </a:solidFill>
                <a:latin typeface="Arial"/>
              </a:rPr>
              <a:t>абциксимаб</a:t>
            </a:r>
            <a:r>
              <a:rPr b="0" lang="en-US" sz="2000" spc="-1" strike="noStrike">
                <a:solidFill>
                  <a:srgbClr val="000000"/>
                </a:solidFill>
                <a:latin typeface="Arial"/>
              </a:rPr>
              <a:t> се везује за тромбоците и спречава њихову агрегацију. Користи се само у једној интравенској дози, искључиво за превенцију тромбозе коронарних артерија после перкутане транслуминалне ангиопластике или уградње стента. Тирофибан (мали, не-пептидни молекул) и ептифибатид (циклични пептид) се такође дају интравенски, у истим индикацијама као абциксима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 аспирина</a:t>
            </a:r>
            <a:endParaRPr b="0" lang="en-US" sz="4400" spc="-1" strike="noStrike">
              <a:solidFill>
                <a:srgbClr val="000000"/>
              </a:solidFill>
              <a:latin typeface="Comic Sans MS"/>
            </a:endParaRPr>
          </a:p>
        </p:txBody>
      </p:sp>
      <p:sp>
        <p:nvSpPr>
          <p:cNvPr id="55" name="Rectangle 1"/>
          <p:cNvSpPr/>
          <p:nvPr/>
        </p:nvSpPr>
        <p:spPr>
          <a:xfrm>
            <a:off x="214200" y="1282320"/>
            <a:ext cx="8786880" cy="53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розив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астритис</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аре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е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оли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бог</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a:t>
            </a:r>
            <a:r>
              <a:rPr b="0" lang="sr-CS" sz="2000" spc="-1" strike="noStrike" baseline="-30000">
                <a:solidFill>
                  <a:srgbClr val="000000"/>
                </a:solidFill>
                <a:latin typeface="Dutch"/>
                <a:ea typeface="Times New Roman"/>
              </a:rPr>
              <a:t>1</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ј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рж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ба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оз</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лузокожу</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горш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ихт</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теж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лучив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краћ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у</a:t>
            </a:r>
            <a:r>
              <a:rPr b="0" lang="sr-CS"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Велик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доз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арадоксално</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ове</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авају</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излу</a:t>
            </a:r>
            <a:r>
              <a:rPr b="0" lang="sr-CS" sz="2000" spc="-1" strike="noStrike">
                <a:solidFill>
                  <a:srgbClr val="000000"/>
                </a:solidFill>
                <a:latin typeface="Times New Roman"/>
                <a:ea typeface="Times New Roman"/>
              </a:rPr>
              <a:t>ч</a:t>
            </a:r>
            <a:r>
              <a:rPr b="0" lang="pt-BR" sz="2000" spc="-1" strike="noStrike">
                <a:solidFill>
                  <a:srgbClr val="000000"/>
                </a:solidFill>
                <a:latin typeface="Times New Roman"/>
                <a:ea typeface="Times New Roman"/>
              </a:rPr>
              <a:t>ивањ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мокра</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н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фун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треб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гулаци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р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аћен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држава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ечност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ж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азват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јов</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дро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нцефалопат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суфицијенц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тр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ок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нек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луенц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вч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оги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т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лађ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a:t>
            </a:r>
            <a:r>
              <a:rPr b="0" lang="sr-CS" sz="2000" spc="-1" strike="noStrike">
                <a:solidFill>
                  <a:srgbClr val="000000"/>
                </a:solidFill>
                <a:latin typeface="Dutch"/>
                <a:ea typeface="Times New Roman"/>
              </a:rPr>
              <a:t> 8 </a:t>
            </a:r>
            <a:r>
              <a:rPr b="0" lang="sr-CS" sz="2000" spc="-1" strike="noStrike">
                <a:solidFill>
                  <a:srgbClr val="000000"/>
                </a:solidFill>
                <a:latin typeface="Times New Roman"/>
                <a:ea typeface="Times New Roman"/>
              </a:rPr>
              <a:t>го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ар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и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ам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нтраиндикована</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сле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већ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леукотри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лавних</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ронхоконстриктор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ако се ови лекови примене код трудница у последњем тромесечју трудноће, могу одложити почетак порођаја и повећавају ризик од мртворођености; деца која се роде имају ниску тежину на рођењу и већи ризик од интракранијалних крварењ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ИТРАТИ – механизам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Нитрати су лекови који у свом молекулу имају нитратну групу (</a:t>
            </a:r>
            <a:r>
              <a:rPr b="0" lang="en-US" sz="2000" spc="-1" strike="noStrike">
                <a:solidFill>
                  <a:srgbClr val="000000"/>
                </a:solidFill>
                <a:latin typeface="Comic Sans MS"/>
              </a:rPr>
              <a:t>N</a:t>
            </a:r>
            <a:r>
              <a:rPr b="0" lang="sr-RS" sz="2000" spc="-1" strike="noStrike">
                <a:solidFill>
                  <a:srgbClr val="000000"/>
                </a:solidFill>
                <a:latin typeface="Comic Sans MS"/>
              </a:rPr>
              <a:t>О3). После везивања нитрата за њихов рецептор, сулфхидрилне групе рецептора редукују нитрат у нитрит и доводе до ослобађања азот-моноксида (</a:t>
            </a:r>
            <a:r>
              <a:rPr b="0" lang="en-US" sz="2000" spc="-1" strike="noStrike">
                <a:solidFill>
                  <a:srgbClr val="000000"/>
                </a:solidFill>
                <a:latin typeface="Comic Sans MS"/>
              </a:rPr>
              <a:t>N</a:t>
            </a:r>
            <a:r>
              <a:rPr b="0" lang="sr-RS" sz="2000" spc="-1" strike="noStrike">
                <a:solidFill>
                  <a:srgbClr val="000000"/>
                </a:solidFill>
                <a:latin typeface="Comic Sans MS"/>
              </a:rPr>
              <a:t>О), који активира гуанилат-циклазу, доводи до нагомилавања цикличног гуано-зин-монофосфата и релаксације глатких мишићних ћелија. Сматра се да циклични гуанозин монофосфат доводи до релаксације због инхибиције ослобађања калцијума из саркоплазматског ретикулума и инхибиције уласка калцијума у ћелију кроз Л-тип калцијумских канала у ћелијској мембрани. Данас се највише од нитрата у клиничкој пракси користе нитро-глицерол, пентаеритритол-тетранитрат, изосорбид моно- и ди-нитрат.</a:t>
            </a:r>
            <a:endParaRPr b="0" lang="en-US" sz="2000" spc="-1" strike="noStrike">
              <a:solidFill>
                <a:srgbClr val="000000"/>
              </a:solidFill>
              <a:latin typeface="Comic Sans MS"/>
            </a:endParaRPr>
          </a:p>
        </p:txBody>
      </p:sp>
      <p:sp>
        <p:nvSpPr>
          <p:cNvPr id="58" name="TextBox 2"/>
          <p:cNvSpPr/>
          <p:nvPr/>
        </p:nvSpPr>
        <p:spPr>
          <a:xfrm>
            <a:off x="900000" y="20606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39:43Z</dcterms:modified>
  <cp:revision>206</cp:revision>
  <dc:subject/>
  <dc:title>Slide 1</dc:title>
</cp:coreProperties>
</file>